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ifferentiation between tissue-specific datasets. Dendrogram representing the average differentiation among tissue-specific genes in terms of synonymous codon u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utual information of synonymous codon usage. The mutual information (MI) of synonymous codon usage in tissue-specific genes is significantly higher than that expected from a random distribution. Each row represents a cluster of genes expressed in a tissue-specific manner, whereas each column represents a codon. Statistical significance is expressed as −log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Relation of Codon Bias to Tissue-Specific Gene Expression in Arabidopsis thal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Salvatore Camiolo, Lorenzo Farina, and Andrea Porced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92(2):641-6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ctober 1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199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2 by the Genetics Society of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0" y="6908760"/>
            <a:ext cx="274320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fferentiation between tissue-specific datase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0" y="6908760"/>
            <a:ext cx="2743200" cy="406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85680" y="1079640"/>
            <a:ext cx="811548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856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alvatore Camiolo et al. Genetics 2012;192:641-6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199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2 by the Genetics Society of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utual information of synonymous codon us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0" y="6908760"/>
            <a:ext cx="2743200" cy="406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9800" y="3097080"/>
            <a:ext cx="8604360" cy="1357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alvatore Camiolo et al. Genetics 2012;192:641-6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199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2 by the Genetics Society of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